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FA40-769B-47B7-AD45-784A21731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84F4-AD58-4BD5-A0DE-52F86B1434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27160" y="2811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4520" y="3790440"/>
            <a:ext cx="587700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11D-F93A-4A3C-B498-90DBA07CEA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7160" y="2811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4520" y="3790440"/>
            <a:ext cx="587700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EF28-1531-4CFE-8AD1-525AE9591D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27160" y="2811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4520" y="3790440"/>
            <a:ext cx="587700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4BD0-3099-4A9F-98F1-955824F789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27160" y="2811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4520" y="3790440"/>
            <a:ext cx="587700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74B-C287-40C4-829C-606479115D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7160" y="2811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4520" y="3790440"/>
            <a:ext cx="5877000" cy="50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640" y="1557000"/>
            <a:ext cx="7775640" cy="30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Состояние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и перспективы развития </a:t>
            </a:r>
            <a:br>
              <a:rPr sz="2600"/>
            </a:b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жилищно-коммунального комплекса Республики Хакасия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26920" y="5300640"/>
            <a:ext cx="79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Н.Нов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нистерство регионального развития Республики Хакасия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179280" y="692280"/>
            <a:ext cx="25146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6 марта 2012 г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4" descr="логотип копия"/>
          <p:cNvPicPr/>
          <p:nvPr/>
        </p:nvPicPr>
        <p:blipFill>
          <a:blip r:embed="rId1"/>
          <a:stretch/>
        </p:blipFill>
        <p:spPr>
          <a:xfrm>
            <a:off x="7373880" y="333360"/>
            <a:ext cx="151920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8"/>
          <p:cNvSpPr/>
          <p:nvPr/>
        </p:nvSpPr>
        <p:spPr>
          <a:xfrm>
            <a:off x="0" y="692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0" y="620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66920" y="623736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2266920" y="616572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250920" y="1628640"/>
            <a:ext cx="3313080" cy="1871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ация программ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роприятий по вых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й ЖКХ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убыточны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ты позволит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5148360" y="83664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низить бюджетные расхо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вязанные с финансиров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ятельности предприятий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3708360" y="1628280"/>
            <a:ext cx="1152720" cy="57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5148360" y="2205000"/>
            <a:ext cx="3527280" cy="720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ключить (снизить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иск банкротства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148360" y="3357720"/>
            <a:ext cx="3527280" cy="865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высить инвестицион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ивлекательность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комплек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5076720" y="4724280"/>
            <a:ext cx="3527640" cy="935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кратить размеры дебитор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кредиторской задолженности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 flipV="1">
            <a:off x="3780000" y="2276640"/>
            <a:ext cx="1152360" cy="287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780000" y="2924280"/>
            <a:ext cx="122364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708360" y="3355920"/>
            <a:ext cx="115092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835280" y="3646440"/>
            <a:ext cx="360360" cy="719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395280" y="4437000"/>
            <a:ext cx="3889440" cy="1152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высить уровень собирае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тежей населения за предоста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лищно-коммунальные услуги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8"/>
          <p:cNvSpPr/>
          <p:nvPr/>
        </p:nvSpPr>
        <p:spPr>
          <a:xfrm>
            <a:off x="0" y="692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0" y="620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2266920" y="623736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266920" y="616572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250920" y="1628640"/>
            <a:ext cx="3313080" cy="1871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оритетные 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ты министерств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5148360" y="83664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еспечение бесперебойн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комплекса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 flipV="1">
            <a:off x="3708360" y="1628280"/>
            <a:ext cx="1152720" cy="57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5148360" y="2205000"/>
            <a:ext cx="3527280" cy="720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нижение непроизводит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сходов отрасли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5148360" y="3357720"/>
            <a:ext cx="3527280" cy="8650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казание государственной поддерж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ля развития и модер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й инфраструк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5076720" y="4724280"/>
            <a:ext cx="3527640" cy="935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величение платежеспосо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приятий ЖКХ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 flipV="1">
            <a:off x="3780000" y="2492280"/>
            <a:ext cx="1152360" cy="287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708360" y="3284640"/>
            <a:ext cx="1224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708360" y="3860640"/>
            <a:ext cx="115092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835280" y="3646440"/>
            <a:ext cx="288720" cy="862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5280" y="4797360"/>
            <a:ext cx="3889440" cy="936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ликвидация аварийного жил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витие малоэтажной застройки;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2356920"/>
            <a:ext cx="76028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ПАСИБО ЗА ВНИМАНИЕ!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620640"/>
            <a:ext cx="8477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руктура жилищно-коммунального комплекса Республики Хакасия в 2011 году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84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50920" y="5157720"/>
            <a:ext cx="87138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казывают жилищно-коммунальные услуги 136 предприятий. Из них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осударственных и муниципальных – 42 ед., частных и смешанной формы собственности – 94 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10"/>
          <p:cNvGraphicFramePr/>
          <p:nvPr/>
        </p:nvGraphicFramePr>
        <p:xfrm>
          <a:off x="539640" y="1557360"/>
          <a:ext cx="81820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1820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ak_elektra1"/>
          <p:cNvPicPr/>
          <p:nvPr/>
        </p:nvPicPr>
        <p:blipFill>
          <a:blip r:embed="rId1"/>
          <a:stretch/>
        </p:blipFill>
        <p:spPr>
          <a:xfrm>
            <a:off x="1116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635280" y="1125000"/>
            <a:ext cx="1152720" cy="57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3635280" y="2060280"/>
            <a:ext cx="1224000" cy="36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V="1">
            <a:off x="2627280" y="2492280"/>
            <a:ext cx="216000" cy="216000"/>
          </a:xfrm>
          <a:prstGeom prst="line">
            <a:avLst/>
          </a:prstGeom>
          <a:ln w="572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4859280" y="1557360"/>
            <a:ext cx="4033800" cy="792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О «КХ «Жемчужно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ир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4859280" y="333360"/>
            <a:ext cx="4033800" cy="719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УП РХ «Хакресводокан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250920" y="1341360"/>
            <a:ext cx="3238560" cy="28083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рши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11 год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нанс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ульта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4932360" y="5229360"/>
            <a:ext cx="3960720" cy="720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ОО «Чазой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скиз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564000" y="2708280"/>
            <a:ext cx="1224000" cy="503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979640" y="4292640"/>
            <a:ext cx="0" cy="86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4932360" y="2781360"/>
            <a:ext cx="3960720" cy="7189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П «Изых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т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324000" y="530064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П «Бельтирское ЖКХ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скиз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132000" y="4292640"/>
            <a:ext cx="1727280" cy="1152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564000" y="3573360"/>
            <a:ext cx="1224000" cy="503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4932360" y="3933720"/>
            <a:ext cx="3960720" cy="719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П «Енисей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т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7840" y="690120"/>
            <a:ext cx="7570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казатели работы предприятий жилищно-коммунального комплекса за 2011 год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84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3"/>
          <p:cNvGraphicFramePr/>
          <p:nvPr/>
        </p:nvGraphicFramePr>
        <p:xfrm>
          <a:off x="0" y="1627200"/>
          <a:ext cx="9155160" cy="35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7200"/>
                    <a:ext cx="91551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Заголовок 1"/>
          <p:cNvSpPr/>
          <p:nvPr/>
        </p:nvSpPr>
        <p:spPr>
          <a:xfrm>
            <a:off x="250920" y="5157720"/>
            <a:ext cx="87138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 итогам работы жилищно-коммунального комплекса за 2011 год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доходы – 5 216,5 млн. рублей;            расходы – 5 232,2 млн. рублей;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финансовый результат – убытки 15,7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7840" y="690120"/>
            <a:ext cx="7570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биторская и кредиторская задолженность предприятий ЖКХ.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ираемость платежей населения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84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324000" y="4149720"/>
          <a:ext cx="81597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149720"/>
                    <a:ext cx="81597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3"/>
          <p:cNvGraphicFramePr/>
          <p:nvPr/>
        </p:nvGraphicFramePr>
        <p:xfrm>
          <a:off x="-252360" y="1413000"/>
          <a:ext cx="98647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52360" y="1413000"/>
                    <a:ext cx="9864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620640"/>
            <a:ext cx="8477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казатели работы предприятий в сфере тепло- и водоснабжения за 2011 год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84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0" y="47628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0" y="40464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1"/>
          <p:cNvGraphicFramePr/>
          <p:nvPr/>
        </p:nvGraphicFramePr>
        <p:xfrm>
          <a:off x="468360" y="1486080"/>
          <a:ext cx="8478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6080"/>
                    <a:ext cx="8478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8"/>
          <p:cNvSpPr/>
          <p:nvPr/>
        </p:nvSpPr>
        <p:spPr>
          <a:xfrm>
            <a:off x="0" y="620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0" y="76500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81000"/>
            <a:ext cx="778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Износ систем коммунальной инфраструктуры в динамике с 2007 по 2011 г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0"/>
          <p:cNvGraphicFramePr/>
          <p:nvPr/>
        </p:nvGraphicFramePr>
        <p:xfrm>
          <a:off x="225360" y="1628640"/>
          <a:ext cx="8834400" cy="51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28640"/>
                    <a:ext cx="88344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8"/>
          <p:cNvSpPr/>
          <p:nvPr/>
        </p:nvSpPr>
        <p:spPr>
          <a:xfrm>
            <a:off x="0" y="620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0" y="76500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4360" y="981000"/>
            <a:ext cx="778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Динамика замены инженерных с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Республике Хака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6"/>
          <p:cNvGraphicFramePr/>
          <p:nvPr/>
        </p:nvGraphicFramePr>
        <p:xfrm>
          <a:off x="0" y="1514520"/>
          <a:ext cx="905508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4520"/>
                    <a:ext cx="90550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0" y="620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0" y="76500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2266920" y="6453360"/>
            <a:ext cx="68770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266920" y="6524640"/>
            <a:ext cx="687708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1090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66"/>
                </a:solidFill>
                <a:uFillTx/>
                <a:latin typeface="Arial"/>
              </a:rPr>
              <a:t>Слайд 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4360" y="981000"/>
            <a:ext cx="778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рограммные мероприятия по переселению граждан и проведению капитального ремонта в 2012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18"/>
          <p:cNvGraphicFramePr/>
          <p:nvPr/>
        </p:nvGraphicFramePr>
        <p:xfrm>
          <a:off x="611280" y="1700280"/>
          <a:ext cx="825156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5156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9"/>
          <p:cNvGraphicFramePr/>
          <p:nvPr/>
        </p:nvGraphicFramePr>
        <p:xfrm>
          <a:off x="611280" y="4076640"/>
          <a:ext cx="83311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076640"/>
                    <a:ext cx="83311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6:57:59Z</dcterms:created>
  <dc:creator>MF13</dc:creator>
  <dc:description/>
  <dc:language>en-US</dc:language>
  <cp:lastModifiedBy>Минрегион</cp:lastModifiedBy>
  <dcterms:modified xsi:type="dcterms:W3CDTF">2012-03-16T02:14:57Z</dcterms:modified>
  <cp:revision>974</cp:revision>
  <dc:subject/>
  <dc:title>Основные параметры республиканского бюджета в 2004 году</dc:title>
</cp:coreProperties>
</file>